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8F1-CE5F-4848-BE8F-B64F9B1F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32F-491A-4E08-8865-641F57CF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D6A-551A-473E-B2D9-B4C3E5F5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850-143B-4197-A094-1DC055AA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E464-DCFF-4DC1-8A94-1A043BB6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2B73-BCA1-4855-B123-F250C32A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9405-1237-4984-8B47-9380013D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A6D7-6473-4245-AD8A-750CFCF2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AF2C-C816-4D0A-898A-C3950344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A54E-99F7-4491-A675-ED903B4C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4506-BD25-48D9-A6BB-EDB237A6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0A3-EDC7-4A36-B842-82DD2B7F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9DD5-A71D-4796-8B7A-FA77C98F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87A9-82A7-48A5-BE3C-C44D5B1F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8582-05AB-4E72-A34A-DB7A3A8D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8E14-DC98-42D6-A5E5-9E2FA00A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A93F-24EA-477A-BF60-B2C61E74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60D26-3A6B-4115-85F0-F93AE2C4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BC1C8-DDB8-44C3-ACD7-84F1638A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DD56-EFC8-4C56-ABB7-24E89034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7EED4-DCF3-46B4-B131-26359704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4BEE-04FF-459F-A9B9-97CACE66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0C6-7458-4DC4-B707-4114DFE8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E2AF-C467-491D-B23A-59A83A2D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FD5C1-7FFD-4FB0-A4F8-5D2492DF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1E0C9-0D01-449C-A0E3-AC70E578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92834-D92C-467A-A845-45DC8353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C8317-7426-4DBA-8B13-B9C2C9CA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FC66-7CEE-4FBB-BADE-A415B431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DA915-0C35-4CF1-A0E1-18A17E51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92770-7D5E-4E61-8741-D39137CF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66F8D-1EAB-44DC-9733-9E357DA1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1E4B-3A46-4F5F-B452-9FDC8F96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0F9-B0BE-42A7-939C-A5760998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9FD38-02F6-44BD-9E91-9D9893D9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13EEB-0C87-49E3-95F5-AB5C6238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2A4C3-65CB-47BE-9D40-8EFA9E5B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D9220-C638-4AB2-8848-565FA45E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05AFB-E731-49F8-9BF6-8C7A9580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B1DFF-2DD9-40A6-94E8-BFB3047C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40AA3-A7E0-4187-8A1E-A2B58F32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392EA-B753-4AA8-8F00-1758DC5E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2A3BC-C2D0-4CE7-86F1-2A8FCFE8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1B05F-538B-47FA-A9BA-FB4A44D5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0AB-5EE1-4A61-9F2D-77772957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E7105-6F14-4146-8DA5-E992CE27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F10B7-E4A4-4E95-A424-F570D6AE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42B38-325A-4970-A85F-EA2894A4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A5079-C1B4-41F8-AD44-9CE06EEE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35053-2C29-40F8-8463-EF716A5D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F6BCA-DFD5-498D-B707-7000696E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F2436-6CE1-4F5F-B159-9DF3137E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0BDB7-E01D-4715-96EE-B32B12EC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07A11-C310-433D-9C43-E93EC75F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92B04-0616-4FE1-9BA9-4353F6CE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ED6-07CD-45B9-89FA-E18E6432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B5216-8131-4DDF-BEE9-E5431D6B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1D826-153F-4317-95C4-93EE385F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6F602-AE30-4C7D-8ABC-E118557F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427B1-60FC-4F8B-9BE5-EA9C54D2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66467-F29F-4331-8AD9-6F7A8E52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F0C1B-4157-4677-BF51-6219861E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ECF6C-69BF-43DC-BAD6-86B24CF0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94C4A-A569-4D10-8687-8710B5C7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464AD-2131-4792-89BB-A66D5022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0A87C-7A28-4C84-8750-D954541E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B4F-CE37-4465-B92A-817417F5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6E3A2-C6FD-479C-B9F4-0800F301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3BB86-0194-4D1D-8992-9DD9A698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13E3D-7AFE-4A9F-BBBC-C3E1AB71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36172-A0FF-4249-8A09-2F77B680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4914B-C850-4CD3-8A53-3927695E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2FF75-D28B-4BB0-9E1A-E8952DA3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1C91E-2531-4D45-B623-BA3BB847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51AFE-11F0-4C14-A870-62A63899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BE2CD-E281-491D-AF81-DB171A58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0CA55-B5D3-4E66-8644-BAB5786E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0A01-36F2-4711-97F4-AAF0B10E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6536C-65FF-4982-843B-524D7AED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B62A9-7CDD-4D9C-A7BC-F0C68149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EE195-762C-4C7D-B564-6FD81084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5B66C-884E-4B73-B751-F89C701F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686BD-5D98-4D0D-9668-9A5EDBB6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F7F-3F24-4CB4-BB29-EB911EAC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4498-5203-4600-ACE1-4D668F1F55E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9676-3643-4C8C-BAA5-9522C173CA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DDF0-7BC5-4246-A3A4-A9C2C1339C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1C10-8979-43DB-B510-D2FDD9A2020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7A00-E106-48A5-8BD6-39644B751A4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2494-F7A7-4B3B-A674-335248219AD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85FB-8990-4370-8326-F64B0DC50D4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dweb.sdsu.edu/webquest/matrix.html" TargetMode="External"/><Relationship Id="rId3" Type="http://schemas.openxmlformats.org/officeDocument/2006/relationships/hyperlink" Target="http://asterix.ednet.1su.edu/~edtech/webquest/wome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3" descr=""/>
          <p:cNvPicPr/>
          <p:nvPr/>
        </p:nvPicPr>
        <p:blipFill>
          <a:blip r:embed="rId1"/>
          <a:stretch/>
        </p:blipFill>
        <p:spPr>
          <a:xfrm>
            <a:off x="-6480" y="1146240"/>
            <a:ext cx="893124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view and validate all link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sure all steps have resour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lude on and off-line resourc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-selec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earners can focus their attention on the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opic rather than surf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Evaluation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ubrics (align to the process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Draft Rubric for Evaluating WebQue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ttp://edweb.sdsu/edu/webquest/webquestrubric.htm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ttp://www.techtrekers.com/rubrics.htm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cise, clear languag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stributed to stud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rmative (on going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mmativ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ks a clear, challenging ques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es beyond reci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s multiple resour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ten involves group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lls for information manipul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collects the informatio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does the word processing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does the art work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does the scanning? video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project historian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tp://webquest.sdsu.ed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ww.edhelper.com/cat311.ht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WW.google.com - type in topic and WebQuest  - For example “math WebQuest”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nd and research a WebQuest that could be used in your classroom. Document the WebQuest by making a copy. In a short essay explain how you would use the WebQuest in your classroom. Some students may be asked to give a presentation to the class.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115920" y="139680"/>
            <a:ext cx="8577360" cy="12747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atrix: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edweb.sdsu.edu/webquest/matrix.htm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omen in science: </a:t>
            </a:r>
            <a:r>
              <a:rPr b="0" lang="en-US" sz="2000" spc="-1" strike="noStrike" u="sng">
                <a:solidFill>
                  <a:srgbClr val="168bba"/>
                </a:solidFill>
                <a:uFillTx/>
                <a:latin typeface="Corbel"/>
                <a:hlinkClick r:id="rId3"/>
              </a:rPr>
              <a:t>http://asterix.ednet.1su.edu/~edtech/webquest/women.htm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oetry and Planet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ttp://www.lausd.k12.ca.us/lausd/resources/webquest/t-index.htm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ream Vacatio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ttp://www.manteno.k12.il.us/drussert/WebQuests/JackLally/Vaca98’.htm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WebQues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is defined,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Bernie Dodg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t San Diego State University, as “an inquiry-oriented activity in which some or all of the information that learners interact with comes from resources on the Internet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reases Student Motiv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vides Real world Experi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velops Higher Level Thinking Skil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motes Cooperative Lear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quiry-oriented approa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s pre-defined resources from the web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ased on engaging task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n be short or long term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Introduction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ose a challeng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rsonaliz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member your audie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scribe what will happe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lett"/>
                <a:ea typeface="Marlett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rsonal releva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lett"/>
                <a:ea typeface="Marlett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rsonal Interes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Task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ose a set of ques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scribe the end resul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yperStudio stack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owerPoint present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ral repor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stablish time lin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ign goals to standar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Procedure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vide task into daily task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scriptions of roles/perspectiv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ign tasks wi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ey ques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utcom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8:23:11Z</dcterms:created>
  <dc:creator>Lora</dc:creator>
  <dc:description/>
  <dc:language>en-US</dc:language>
  <cp:lastModifiedBy>Brooklyn College</cp:lastModifiedBy>
  <dcterms:modified xsi:type="dcterms:W3CDTF">2010-07-19T23:14:56Z</dcterms:modified>
  <cp:revision>38</cp:revision>
  <dc:subject/>
  <dc:title>What is a WebQuest?</dc:title>
</cp:coreProperties>
</file>